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gif" ContentType="image/gif"/>
  <Override PartName="/ppt/media/image2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10541-6717-4FC4-814A-841783B9A1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109C4-52E3-4C80-B9BB-BCA468F2F3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BAE-C600-4F9B-8332-6155F0BA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3ED-2B60-416B-B498-641AEB38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A6D-51DD-441E-8955-F301EC7C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1B9-1578-40C9-A489-D52655B2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7F8-A0EF-49DE-8F7D-87B3B3E4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0F8-014C-4646-B4CF-BDA25610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3AE-A0E2-482B-8AD1-875A9B4F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029-7B2E-454A-84E3-2D81E1DD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EEB-BC4B-4103-9858-092BEE08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7E7-0F54-4E8A-BAF6-A970805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71E-B230-4153-B2C4-28B93791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516-94DC-4190-AD8B-807F2A1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A7E90-DD4B-420D-81AE-A0A82135E90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1871640" y="2346480"/>
            <a:ext cx="5510160" cy="28540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1001880" y="905040"/>
            <a:ext cx="7140240" cy="1180440"/>
            <a:chOff x="1001880" y="905040"/>
            <a:chExt cx="7140240" cy="1180440"/>
          </a:xfrm>
        </p:grpSpPr>
        <p:sp>
          <p:nvSpPr>
            <p:cNvPr id="65" name="Text Box 2"/>
            <p:cNvSpPr/>
            <p:nvPr/>
          </p:nvSpPr>
          <p:spPr>
            <a:xfrm>
              <a:off x="2572560" y="1011240"/>
              <a:ext cx="5569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戈壁滩上古长城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1001880" y="905040"/>
              <a:ext cx="1467720" cy="1180440"/>
              <a:chOff x="1001880" y="905040"/>
              <a:chExt cx="1467720" cy="118044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1001880" y="905040"/>
                <a:ext cx="1297080" cy="118044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137448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7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古今长城及周围情形的变化，你觉得人们的生活有了怎样的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1230480" y="332100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现在的人们生活得更幸福，更快乐，更悠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对古今长城的刻画，主要采用了什么手法？这样写有什么好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1198440" y="29242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主要采用了对比手法。这样写的好处是突出了现在人们生活的幸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26"/>
          <p:cNvSpPr/>
          <p:nvPr/>
        </p:nvSpPr>
        <p:spPr>
          <a:xfrm>
            <a:off x="583200" y="135468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戈壁滩上古长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左大括号 3"/>
          <p:cNvSpPr/>
          <p:nvPr/>
        </p:nvSpPr>
        <p:spPr>
          <a:xfrm>
            <a:off x="2181240" y="2919240"/>
            <a:ext cx="179280" cy="540000"/>
          </a:xfrm>
          <a:custGeom>
            <a:avLst/>
            <a:gdLst>
              <a:gd name="textAreaLeft" fmla="*/ 114480 w 179280"/>
              <a:gd name="textAreaRight" fmla="*/ 179640 w 179280"/>
              <a:gd name="textAreaTop" fmla="*/ 4680 h 540000"/>
              <a:gd name="textAreaBottom" fmla="*/ 535320 h 5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9"/>
                  <a:pt x="10800" y="598"/>
                </a:cubicBezTo>
                <a:lnTo>
                  <a:pt x="10800" y="10202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099"/>
                  <a:pt x="10800" y="11398"/>
                </a:cubicBezTo>
                <a:lnTo>
                  <a:pt x="10800" y="21002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1487520" y="2938320"/>
            <a:ext cx="102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古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左大括号 6"/>
          <p:cNvSpPr/>
          <p:nvPr/>
        </p:nvSpPr>
        <p:spPr>
          <a:xfrm>
            <a:off x="1217520" y="3103560"/>
            <a:ext cx="312840" cy="144000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1440000"/>
              <a:gd name="textAreaBottom" fmla="*/ 14320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325600" y="2590920"/>
            <a:ext cx="2781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马嘶鸣    刀枪叮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脸上没有笑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左大括号 24"/>
          <p:cNvSpPr/>
          <p:nvPr/>
        </p:nvSpPr>
        <p:spPr>
          <a:xfrm flipH="1">
            <a:off x="5212800" y="2892600"/>
            <a:ext cx="199800" cy="1800000"/>
          </a:xfrm>
          <a:custGeom>
            <a:avLst/>
            <a:gdLst>
              <a:gd name="textAreaLeft" fmla="*/ 127800 w 199800"/>
              <a:gd name="textAreaRight" fmla="*/ 200160 w 199800"/>
              <a:gd name="textAreaTop" fmla="*/ 5040 h 1800000"/>
              <a:gd name="textAreaBottom" fmla="*/ 179496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1608840" y="424188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现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26"/>
          <p:cNvSpPr/>
          <p:nvPr/>
        </p:nvSpPr>
        <p:spPr>
          <a:xfrm>
            <a:off x="5795280" y="30830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远离战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珍爱和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18"/>
          <p:cNvSpPr/>
          <p:nvPr/>
        </p:nvSpPr>
        <p:spPr>
          <a:xfrm>
            <a:off x="2324160" y="3873600"/>
            <a:ext cx="21114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蓝天    白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羊儿    笛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左大括号 19"/>
          <p:cNvSpPr/>
          <p:nvPr/>
        </p:nvSpPr>
        <p:spPr>
          <a:xfrm>
            <a:off x="2181240" y="4187880"/>
            <a:ext cx="179280" cy="539640"/>
          </a:xfrm>
          <a:custGeom>
            <a:avLst/>
            <a:gdLst>
              <a:gd name="textAreaLeft" fmla="*/ 114480 w 179280"/>
              <a:gd name="textAreaRight" fmla="*/ 179640 w 179280"/>
              <a:gd name="textAreaTop" fmla="*/ 4320 h 539640"/>
              <a:gd name="textAreaBottom" fmla="*/ 535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9"/>
                  <a:pt x="10800" y="598"/>
                </a:cubicBezTo>
                <a:lnTo>
                  <a:pt x="10800" y="10202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099"/>
                  <a:pt x="10800" y="11398"/>
                </a:cubicBezTo>
                <a:lnTo>
                  <a:pt x="10800" y="21002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介绍了两千多年前古长城周围的战争场面，以及现在人们幸福生活的场景，通过对比，告诉我们要珍惜现在和平、幸福的生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1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认识长城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长城是中华民族攀登的缩影，也是中华民族文明的象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万里长城是世界建筑奇迹之一。它东、西、南、北纵横交错绵延起伏于中国辽阔的土地上。长度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21196.1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千米，因此被称之为万里长城，是世界上伟大的工程之一，也是中国第一名胜和中国旅游点的代表。它东起辽东，经河北、北京、山西、陕西、内蒙古、宁夏到甘肃的嘉峪关，穿过崇山峻岭、山涧峡谷，绵延起伏。在古代交通运输工具极其落后的情况下，修建如此巨大的工程，实在是一件了不起的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1101600" y="2125800"/>
            <a:ext cx="7234200" cy="3760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1"/>
          <p:cNvSpPr/>
          <p:nvPr/>
        </p:nvSpPr>
        <p:spPr>
          <a:xfrm>
            <a:off x="1042920" y="2647800"/>
            <a:ext cx="729288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长城高际天，三十万人守。一日诏书来，扶苏先授首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古筑城曲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陆游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金募战士，万里筑长城。何时青冢月，却照汉家营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古意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陆游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3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996840" y="2392200"/>
            <a:ext cx="7338960" cy="3227400"/>
          </a:xfrm>
          <a:prstGeom prst="rect">
            <a:avLst/>
          </a:prstGeom>
          <a:ln w="0">
            <a:noFill/>
          </a:ln>
        </p:spPr>
      </p:pic>
      <p:sp>
        <p:nvSpPr>
          <p:cNvPr id="147" name="矩形 1"/>
          <p:cNvSpPr/>
          <p:nvPr/>
        </p:nvSpPr>
        <p:spPr>
          <a:xfrm>
            <a:off x="1042920" y="3097080"/>
            <a:ext cx="723420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到长城非好汉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毛泽东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辽海吞边月，长城锁乱山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子夜吴歌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萧诗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9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1803960" y="159084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世界级文化遗产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1265400" y="2016000"/>
            <a:ext cx="705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口店北京人遗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长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明清皇宫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北京故宫、沈阳故宫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颐和园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坛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明清皇家陵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明显陵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湖北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清东陵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河北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清西陵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河北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明孝陵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江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明十三陵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北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盛京三陵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辽宁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6"/>
          <p:cNvGrpSpPr/>
          <p:nvPr/>
        </p:nvGrpSpPr>
        <p:grpSpPr>
          <a:xfrm>
            <a:off x="558720" y="903240"/>
            <a:ext cx="3849840" cy="666720"/>
            <a:chOff x="558720" y="903240"/>
            <a:chExt cx="3849840" cy="666720"/>
          </a:xfrm>
        </p:grpSpPr>
        <p:sp>
          <p:nvSpPr>
            <p:cNvPr id="155" name="圆角矩形 7"/>
            <p:cNvSpPr/>
            <p:nvPr/>
          </p:nvSpPr>
          <p:spPr>
            <a:xfrm>
              <a:off x="1374480" y="104112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文本框 16"/>
            <p:cNvSpPr/>
            <p:nvPr/>
          </p:nvSpPr>
          <p:spPr>
            <a:xfrm>
              <a:off x="1634040" y="106020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90324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9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运用环境描写、动作描写、衬托和对比的写作手法，介绍了两千多年前古长城周围的战争场面，以及现在人们幸福生活的场景，通过对比，告诉我们要珍惜现在和平、幸福的生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1203480" y="1838160"/>
            <a:ext cx="72104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朗读本文，要通过长城的古今对比来体会其中的情感。第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自然段要用舒缓的语调来读。读第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自然段时，要想象长城周围激烈的战斗场面，体会战争给人们带来的痛苦，应用稍快的语速来表现战斗的激烈和战士们的紧张心情。第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自然段则要用舒缓的语调，表现出和平时期人们生活的幸福、安逸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要在熟读的基础上，按“今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古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今”的顺序，抓住每段的主要内容进行背诵。第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自然段写了长城今天的面貌，可抓住一个“矮”字来背诵。第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自然段写古代的长城，先写了战场的情景，又写了士兵们防守的情景，可以采用提示法背诵。第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自然段描述了现在的长城景象，按照“羊儿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大哥哥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云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羊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笛声”的顺序来背诵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-103320" y="689040"/>
            <a:ext cx="4303800" cy="12366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2"/>
          <p:cNvSpPr/>
          <p:nvPr/>
        </p:nvSpPr>
        <p:spPr>
          <a:xfrm>
            <a:off x="885960" y="1344600"/>
            <a:ext cx="70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感情地朗读课文。背诵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熟读课文并背诵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戈壁滩上的古长城，感受今昔的巨大变化，热爱今天和平、幸福的生活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7"/>
          <p:cNvSpPr/>
          <p:nvPr/>
        </p:nvSpPr>
        <p:spPr>
          <a:xfrm>
            <a:off x="1035000" y="132552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读句子，想画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1214280" y="2052720"/>
            <a:ext cx="74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喊叫，马嘶鸣，刀枪叮叮当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很蓝，云很白，羊儿慢悠悠地吃着草，清脆的笛声飘得很远很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214280" y="3879720"/>
            <a:ext cx="73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指导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描写了两幅图画。一幅是古长城的图画，一幅是现代长城的图画。前者想象出的画面是令人紧张、悲壮的；后者想象出的画面是轻松愉快、心情悠扬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7"/>
          <p:cNvSpPr/>
          <p:nvPr/>
        </p:nvSpPr>
        <p:spPr>
          <a:xfrm>
            <a:off x="326880" y="1004760"/>
            <a:ext cx="70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读读认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858960" y="14968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è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à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e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ō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i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u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e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í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乐 滋 滋          挎   着   弓   箭              吹  着  牧  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ō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ōu    n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e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ānɡ    dà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e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ó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慢   悠   悠        拿   着   刀   枪            带   着   笑   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ǒ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á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ǒ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īnɡ    ti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á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i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á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走   来   走   去   的   士   兵        跳   来   跳   去   的   羊   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u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u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á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é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断   断   续   续   的   长   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7167"/>
          <p:cNvSpPr/>
          <p:nvPr/>
        </p:nvSpPr>
        <p:spPr>
          <a:xfrm>
            <a:off x="865080" y="229536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加点字写上正确的音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矮小　　 　排队　　 　挎包　 　弓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　　　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滋生　　 　悠长　　 　断断续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0" name="矩形 1"/>
          <p:cNvSpPr/>
          <p:nvPr/>
        </p:nvSpPr>
        <p:spPr>
          <a:xfrm>
            <a:off x="1652400" y="36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9"/>
          <p:cNvSpPr/>
          <p:nvPr/>
        </p:nvSpPr>
        <p:spPr>
          <a:xfrm>
            <a:off x="3333600" y="36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0"/>
          <p:cNvSpPr/>
          <p:nvPr/>
        </p:nvSpPr>
        <p:spPr>
          <a:xfrm>
            <a:off x="5045760" y="36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1"/>
          <p:cNvSpPr/>
          <p:nvPr/>
        </p:nvSpPr>
        <p:spPr>
          <a:xfrm>
            <a:off x="6724440" y="36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2"/>
          <p:cNvSpPr/>
          <p:nvPr/>
        </p:nvSpPr>
        <p:spPr>
          <a:xfrm>
            <a:off x="5045760" y="4718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5688720" y="469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4"/>
          <p:cNvSpPr/>
          <p:nvPr/>
        </p:nvSpPr>
        <p:spPr>
          <a:xfrm>
            <a:off x="3349440" y="472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5"/>
          <p:cNvSpPr/>
          <p:nvPr/>
        </p:nvSpPr>
        <p:spPr>
          <a:xfrm>
            <a:off x="1652400" y="472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3" descr="屏幕剪辑"/>
          <p:cNvPicPr/>
          <p:nvPr/>
        </p:nvPicPr>
        <p:blipFill>
          <a:blip r:embed="rId2"/>
          <a:stretch/>
        </p:blipFill>
        <p:spPr>
          <a:xfrm>
            <a:off x="1447920" y="2927520"/>
            <a:ext cx="1039680" cy="6109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4" descr="屏幕剪辑"/>
          <p:cNvPicPr/>
          <p:nvPr/>
        </p:nvPicPr>
        <p:blipFill>
          <a:blip r:embed="rId3"/>
          <a:stretch/>
        </p:blipFill>
        <p:spPr>
          <a:xfrm>
            <a:off x="4707000" y="4070520"/>
            <a:ext cx="1873080" cy="6062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6" descr="屏幕剪辑"/>
          <p:cNvPicPr/>
          <p:nvPr/>
        </p:nvPicPr>
        <p:blipFill>
          <a:blip r:embed="rId4"/>
          <a:stretch/>
        </p:blipFill>
        <p:spPr>
          <a:xfrm>
            <a:off x="2995560" y="2901960"/>
            <a:ext cx="1040040" cy="6112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7" descr="屏幕剪辑"/>
          <p:cNvPicPr/>
          <p:nvPr/>
        </p:nvPicPr>
        <p:blipFill>
          <a:blip r:embed="rId5"/>
          <a:stretch/>
        </p:blipFill>
        <p:spPr>
          <a:xfrm>
            <a:off x="4707000" y="2901960"/>
            <a:ext cx="1041480" cy="6112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8" descr="屏幕剪辑"/>
          <p:cNvPicPr/>
          <p:nvPr/>
        </p:nvPicPr>
        <p:blipFill>
          <a:blip r:embed="rId6"/>
          <a:stretch/>
        </p:blipFill>
        <p:spPr>
          <a:xfrm>
            <a:off x="6321600" y="2901960"/>
            <a:ext cx="1041120" cy="6112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9" descr="屏幕剪辑"/>
          <p:cNvPicPr/>
          <p:nvPr/>
        </p:nvPicPr>
        <p:blipFill>
          <a:blip r:embed="rId7"/>
          <a:stretch/>
        </p:blipFill>
        <p:spPr>
          <a:xfrm>
            <a:off x="1447920" y="4048200"/>
            <a:ext cx="1039680" cy="6127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30" descr="屏幕剪辑"/>
          <p:cNvPicPr/>
          <p:nvPr/>
        </p:nvPicPr>
        <p:blipFill>
          <a:blip r:embed="rId8"/>
          <a:stretch/>
        </p:blipFill>
        <p:spPr>
          <a:xfrm>
            <a:off x="3011400" y="4027320"/>
            <a:ext cx="1040040" cy="611280"/>
          </a:xfrm>
          <a:prstGeom prst="rect">
            <a:avLst/>
          </a:prstGeom>
          <a:ln w="0">
            <a:noFill/>
          </a:ln>
        </p:spPr>
      </p:pic>
      <p:sp>
        <p:nvSpPr>
          <p:cNvPr id="185" name="矩形 5"/>
          <p:cNvSpPr/>
          <p:nvPr/>
        </p:nvSpPr>
        <p:spPr>
          <a:xfrm>
            <a:off x="1738800" y="300204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ǎ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3170880" y="29494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á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4850640" y="29764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6429600" y="2963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1682280" y="41022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0"/>
          <p:cNvSpPr/>
          <p:nvPr/>
        </p:nvSpPr>
        <p:spPr>
          <a:xfrm>
            <a:off x="2778120" y="4102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ō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4385880" y="412272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du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5740560" y="399744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1595520" y="1473120"/>
            <a:ext cx="71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拼拼写写我最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énɡ                 xià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ónɡ               chǎ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ōnɡ              ɡē                            m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6526080" y="2573280"/>
            <a:ext cx="870120" cy="8650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" descr=""/>
          <p:cNvPicPr/>
          <p:nvPr/>
        </p:nvPicPr>
        <p:blipFill>
          <a:blip r:embed="rId2"/>
          <a:stretch/>
        </p:blipFill>
        <p:spPr>
          <a:xfrm>
            <a:off x="3693960" y="2573280"/>
            <a:ext cx="1667160" cy="8650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5" descr=""/>
          <p:cNvPicPr/>
          <p:nvPr/>
        </p:nvPicPr>
        <p:blipFill>
          <a:blip r:embed="rId3"/>
          <a:stretch/>
        </p:blipFill>
        <p:spPr>
          <a:xfrm>
            <a:off x="1681200" y="2573280"/>
            <a:ext cx="869760" cy="86508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7" descr=""/>
          <p:cNvPicPr/>
          <p:nvPr/>
        </p:nvPicPr>
        <p:blipFill>
          <a:blip r:embed="rId4"/>
          <a:stretch/>
        </p:blipFill>
        <p:spPr>
          <a:xfrm>
            <a:off x="2392200" y="4299120"/>
            <a:ext cx="871560" cy="8632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21" descr=""/>
          <p:cNvPicPr/>
          <p:nvPr/>
        </p:nvPicPr>
        <p:blipFill>
          <a:blip r:embed="rId5"/>
          <a:stretch/>
        </p:blipFill>
        <p:spPr>
          <a:xfrm>
            <a:off x="3881520" y="4299120"/>
            <a:ext cx="869760" cy="8632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22" descr=""/>
          <p:cNvPicPr/>
          <p:nvPr/>
        </p:nvPicPr>
        <p:blipFill>
          <a:blip r:embed="rId6"/>
          <a:stretch/>
        </p:blipFill>
        <p:spPr>
          <a:xfrm>
            <a:off x="6526080" y="4299120"/>
            <a:ext cx="870120" cy="863280"/>
          </a:xfrm>
          <a:prstGeom prst="rect">
            <a:avLst/>
          </a:prstGeom>
          <a:ln w="0">
            <a:noFill/>
          </a:ln>
        </p:spPr>
      </p:pic>
      <p:sp>
        <p:nvSpPr>
          <p:cNvPr id="200" name="矩形 23"/>
          <p:cNvSpPr/>
          <p:nvPr/>
        </p:nvSpPr>
        <p:spPr>
          <a:xfrm>
            <a:off x="6607080" y="4322880"/>
            <a:ext cx="6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1873080" y="2641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3969720" y="2641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笑 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6707160" y="2624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572560" y="4371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8"/>
          <p:cNvSpPr/>
          <p:nvPr/>
        </p:nvSpPr>
        <p:spPr>
          <a:xfrm>
            <a:off x="4037040" y="4386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9"/>
          <p:cNvSpPr/>
          <p:nvPr/>
        </p:nvSpPr>
        <p:spPr>
          <a:xfrm>
            <a:off x="5934240" y="437688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579040" y="2655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5968800" y="2624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24"/>
          <p:cNvSpPr/>
          <p:nvPr/>
        </p:nvSpPr>
        <p:spPr>
          <a:xfrm>
            <a:off x="1701720" y="4376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7"/>
          <p:cNvSpPr/>
          <p:nvPr/>
        </p:nvSpPr>
        <p:spPr>
          <a:xfrm>
            <a:off x="4858560" y="4338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3"/>
          <p:cNvSpPr/>
          <p:nvPr/>
        </p:nvSpPr>
        <p:spPr>
          <a:xfrm>
            <a:off x="941400" y="1679400"/>
            <a:ext cx="776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我会查字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戈”用音序查字法先查音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再查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笔顺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弓”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，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，第三画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可以组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容”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，部首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去掉部首还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，可以组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7329600" y="506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5"/>
          <p:cNvSpPr/>
          <p:nvPr/>
        </p:nvSpPr>
        <p:spPr>
          <a:xfrm>
            <a:off x="5938200" y="23414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1981080" y="28670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ɡ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23"/>
          <p:cNvSpPr/>
          <p:nvPr/>
        </p:nvSpPr>
        <p:spPr>
          <a:xfrm>
            <a:off x="7323120" y="2876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4"/>
          <p:cNvSpPr/>
          <p:nvPr/>
        </p:nvSpPr>
        <p:spPr>
          <a:xfrm>
            <a:off x="3198600" y="343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独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27"/>
          <p:cNvSpPr/>
          <p:nvPr/>
        </p:nvSpPr>
        <p:spPr>
          <a:xfrm>
            <a:off x="5603760" y="3456000"/>
            <a:ext cx="7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8"/>
          <p:cNvSpPr/>
          <p:nvPr/>
        </p:nvSpPr>
        <p:spPr>
          <a:xfrm>
            <a:off x="4726080" y="3978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开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9"/>
          <p:cNvSpPr/>
          <p:nvPr/>
        </p:nvSpPr>
        <p:spPr>
          <a:xfrm>
            <a:off x="7056000" y="3976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弓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0"/>
          <p:cNvSpPr/>
          <p:nvPr/>
        </p:nvSpPr>
        <p:spPr>
          <a:xfrm>
            <a:off x="2984040" y="450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61439"/>
          <p:cNvSpPr/>
          <p:nvPr/>
        </p:nvSpPr>
        <p:spPr>
          <a:xfrm>
            <a:off x="6127560" y="450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1440"/>
          <p:cNvSpPr/>
          <p:nvPr/>
        </p:nvSpPr>
        <p:spPr>
          <a:xfrm>
            <a:off x="2208240" y="5100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61441"/>
          <p:cNvSpPr/>
          <p:nvPr/>
        </p:nvSpPr>
        <p:spPr>
          <a:xfrm>
            <a:off x="5142600" y="5079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容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1446" descr=""/>
          <p:cNvPicPr/>
          <p:nvPr/>
        </p:nvPicPr>
        <p:blipFill>
          <a:blip r:embed="rId1"/>
          <a:stretch/>
        </p:blipFill>
        <p:spPr>
          <a:xfrm>
            <a:off x="4511520" y="2959200"/>
            <a:ext cx="1551240" cy="291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9" descr=""/>
          <p:cNvPicPr/>
          <p:nvPr/>
        </p:nvPicPr>
        <p:blipFill>
          <a:blip r:embed="rId2"/>
          <a:stretch/>
        </p:blipFill>
        <p:spPr>
          <a:xfrm>
            <a:off x="1690560" y="3925800"/>
            <a:ext cx="392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8764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两千多年前的长城周围的情形是怎样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320" y="38894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现在的长城是什么样的？周围的情形是怎样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51562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赏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作者对古今长城的刻画，主要采用了什么手法？这样写有什么好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00120" y="477756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悟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通过古今长城及周围情形的变化，你觉得人们的生活有了怎样的变化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434320" y="190692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者写古长城是为了表达一种什么感情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559040" y="12945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赞美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077840" y="182556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就是古长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云形 1"/>
          <p:cNvGrpSpPr/>
          <p:nvPr/>
        </p:nvGrpSpPr>
        <p:grpSpPr>
          <a:xfrm>
            <a:off x="4389480" y="1000080"/>
            <a:ext cx="3870360" cy="987480"/>
            <a:chOff x="4389480" y="1000080"/>
            <a:chExt cx="3870360" cy="987480"/>
          </a:xfrm>
        </p:grpSpPr>
        <p:pic>
          <p:nvPicPr>
            <p:cNvPr id="84" name="云形 1" descr=""/>
            <p:cNvPicPr/>
            <p:nvPr/>
          </p:nvPicPr>
          <p:blipFill>
            <a:blip r:embed="rId1"/>
            <a:stretch/>
          </p:blipFill>
          <p:spPr>
            <a:xfrm>
              <a:off x="4389480" y="1000080"/>
              <a:ext cx="38703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35760" y="12286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判断句、总结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6"/>
          <p:cNvSpPr/>
          <p:nvPr/>
        </p:nvSpPr>
        <p:spPr>
          <a:xfrm>
            <a:off x="1187280" y="3444840"/>
            <a:ext cx="69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对上一句描述的总结。突出上面的形象就是长城的样子，引出了本文要介绍的对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1"/>
          <p:cNvGrpSpPr/>
          <p:nvPr/>
        </p:nvGrpSpPr>
        <p:grpSpPr>
          <a:xfrm>
            <a:off x="873000" y="2612880"/>
            <a:ext cx="7683480" cy="559080"/>
            <a:chOff x="873000" y="2612880"/>
            <a:chExt cx="7683480" cy="559080"/>
          </a:xfrm>
        </p:grpSpPr>
        <p:sp>
          <p:nvSpPr>
            <p:cNvPr id="88" name="直接连接符 12"/>
            <p:cNvSpPr/>
            <p:nvPr/>
          </p:nvSpPr>
          <p:spPr>
            <a:xfrm>
              <a:off x="873000" y="31719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任意多边形 13"/>
            <p:cNvSpPr/>
            <p:nvPr/>
          </p:nvSpPr>
          <p:spPr>
            <a:xfrm>
              <a:off x="873000" y="2612880"/>
              <a:ext cx="7683480" cy="55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个判断句有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识判断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3"/>
          <p:cNvSpPr/>
          <p:nvPr/>
        </p:nvSpPr>
        <p:spPr>
          <a:xfrm>
            <a:off x="903240" y="1846440"/>
            <a:ext cx="73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判断句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断句一般用“是”作谓语，连接前后的名词、代词或相应的短语，对事物的属性作出判断，即说明某事物是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判断方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句子中一般有“是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735120" y="1500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很蓝，云很白，羊儿慢悠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ōu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悠地吃着草，清脆的笛声飘得很远很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3"/>
          <p:cNvGrpSpPr/>
          <p:nvPr/>
        </p:nvGrpSpPr>
        <p:grpSpPr>
          <a:xfrm>
            <a:off x="873000" y="2927520"/>
            <a:ext cx="7683480" cy="558720"/>
            <a:chOff x="873000" y="2927520"/>
            <a:chExt cx="7683480" cy="558720"/>
          </a:xfrm>
        </p:grpSpPr>
        <p:sp>
          <p:nvSpPr>
            <p:cNvPr id="96" name="直接连接符 4"/>
            <p:cNvSpPr/>
            <p:nvPr/>
          </p:nvSpPr>
          <p:spPr>
            <a:xfrm>
              <a:off x="873000" y="34862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任意多边形 5"/>
            <p:cNvSpPr/>
            <p:nvPr/>
          </p:nvSpPr>
          <p:spPr>
            <a:xfrm>
              <a:off x="873000" y="292752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句环境描写说明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1"/>
          <p:cNvSpPr/>
          <p:nvPr/>
        </p:nvSpPr>
        <p:spPr>
          <a:xfrm>
            <a:off x="885960" y="369108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环境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通过“慢悠悠”吃草的羊儿，表明了环境的恬静。“清脆的笛声飘得很远很远”表达出牧羊人的愉快心情。这些都突出了现在的长城已经成了一处优美的风景，这里的人们生活得很幸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云形 7"/>
          <p:cNvGrpSpPr/>
          <p:nvPr/>
        </p:nvGrpSpPr>
        <p:grpSpPr>
          <a:xfrm>
            <a:off x="4700520" y="1987560"/>
            <a:ext cx="2455920" cy="987480"/>
            <a:chOff x="4700520" y="1987560"/>
            <a:chExt cx="2455920" cy="987480"/>
          </a:xfrm>
        </p:grpSpPr>
        <p:pic>
          <p:nvPicPr>
            <p:cNvPr id="100" name="云形 7" descr=""/>
            <p:cNvPicPr/>
            <p:nvPr/>
          </p:nvPicPr>
          <p:blipFill>
            <a:blip r:embed="rId1"/>
            <a:stretch/>
          </p:blipFill>
          <p:spPr>
            <a:xfrm>
              <a:off x="4700520" y="1987560"/>
              <a:ext cx="2455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393880" y="2216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环境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977760" y="3718080"/>
            <a:ext cx="7425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写古长城是为了使我们更加热爱今天的幸福生活，表达了作者对现在和平、幸福生活的珍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写古长城是为了表达一种什么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千多年前的长城周围的情形是怎样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1197000" y="3209760"/>
            <a:ext cx="72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两千多年前的长城周围是古战场，当时那里人喊叫，马嘶鸣，刀枪叮叮当当。长城上的士兵挎着弓箭走来走去，脸上没有笑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在的长城是什么样的？周围的情形是怎样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039680" y="27939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现在的长城是一些断断续续的、排成一长串的矮矮的土墙墩，羊儿上上下下跳来跳去，放羊的大哥哥坐在墙墩上，乐滋滋地吹着牧笛。周围景色很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09T14:28:23Z</dcterms:modified>
  <cp:revision>4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